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6319-1BF6-4045-9A43-137AD095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1E73-CB29-480A-997E-C3AB6D41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BE89-2A27-46F0-A609-1751D750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0230-8805-4355-BD4A-95B2A827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D660-F494-4ADA-9600-F426663A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5A9A-E07B-494C-B931-DC90944C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770E-7293-42F6-8EAE-61C2B075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F5B6-6A5F-424C-BA60-2D699C5E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56F3-200B-4842-B057-0F1700B1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D855-6746-404F-814B-9C8CC93E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1ED4-4C2B-4281-AF38-C5FC669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1663-237A-4379-BFB6-4E96DE64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5A99-A52F-4833-A5C8-7D252526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9C2-3432-4843-AB5B-463E95AB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B87D-B514-4857-8559-ABCB2B48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CA88-CE16-49B8-9BC6-DF69A66A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32A1-2F7E-4277-9E8B-8726D5D1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7170-3614-4D7E-BEE5-703AB4BC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8E4E-B582-42DC-AE5B-CFEB536C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8E64-8B44-4EE1-9475-1812AE8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84DF-A830-4004-BAB5-2CF29C83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E654-E0F4-49CE-9DCC-168B2C7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53F1-8D88-49EB-950C-3104B92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CAE6-6353-497A-BB18-E77966A0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713640" y="141120"/>
            <a:ext cx="2428920" cy="6743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C544-AB9F-4308-8C20-9EC2C4E07B36}" type="slidenum">
              <a:rPr b="0" lang="fi-FI" sz="1400" spc="-1" strike="noStrike">
                <a:solidFill>
                  <a:srgbClr val="ffffff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603360" cy="78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13640" y="109440"/>
            <a:ext cx="2428920" cy="674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7854840" cy="107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C387-91F2-419A-AA0C-E718F84ACE0B}" type="slidenum">
              <a:rPr b="0" lang="fi-FI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260280"/>
            <a:ext cx="830160" cy="1079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joneuvo- ja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uljetustekniik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13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öturvallisuuden opett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al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yössäoppimisen työturvallisuusprojekt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  Huoltokui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turvallisuusohj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ilun ylittäminen, vain  siltaa pit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hyppääminen  yli on ehdottomasti kiell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uilun kulkutie avoim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ukastumisva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uva, Turvakilvet Oy, www.turvakilvet.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25640" y="1989000"/>
            <a:ext cx="2646360" cy="376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AC842-9293-48B2-A42E-C18FEE2554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  Pesutilat  ja niiden käytt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ittävä ilmanvaih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utilat erotettava muista tilo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ojavaruste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ojapuku, kumisaappaat, käsin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uottimia käsiteltäessä hengityssuoj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tiapintojen liukka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2840" y="1989000"/>
            <a:ext cx="3359160" cy="362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E27A-F9B5-416B-BEBA-98DDDF798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 Harjapesuk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03640" y="2101680"/>
            <a:ext cx="383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uotinpesuaineen höyryiltä suojautu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japesukoneen läheisyydessä oleskelu vaaral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älä poistu autosta pesuohjelman aikan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80988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E84E-1397-47A0-91EE-D816B7C493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 Korkeapainepes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ottava korkeapaineista vesisuihk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ottava paineen aiheuttamaa työntövoim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ista kuitenkin suojata sähkölaitteet ja ole varovainen kastellessasi moottoritil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7418-C4AF-42EF-ABA6-AE6677194C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Moottoritilan pe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uotin pesuaineen käyttö vaatii hengityksen- ja silmien suojai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ut suojavarus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o korkeaa paine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hkölaitteiden suojaus kosteud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olehdi moottoritilan kuivaus pesun jälk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D76C-8959-4844-B6F0-ECAF1F6ADF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 Moottoritilan pe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uma moo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uotin höyr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hkölait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3730680" cy="279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BB95-7303-44B4-9341-AF8E67818C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Käsityökal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1640" y="198900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uvitaltat (meissel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intolenkki, lenkkiava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lsyt ja väänti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koistyövälin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2205000"/>
            <a:ext cx="3809880" cy="35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4E050-AE10-4806-B4FC-D98B8082A8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1  Käsikäyttöiset sähkötoimiset laitteet ja koneet, viat ja häiriö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2101320"/>
            <a:ext cx="77040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 kone tai laite pysähtyy sähköhäiriön tak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ännä sen käyttökytkin 0-asent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olehdi, että uudelleenkäynnistys ei aiheuta vaar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hkölaite on tarkastettava tai vietävä huoltoon, 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aneen sulakkeen tilalle vaihdettu uusi sulake pal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donsuojakatkaisija eli automaattisulake lauke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kavirtasuojakytkin lauke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8602-A0F8-4C88-8568-B901A30C48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 Paineilmakäyttöiset koneet ja laitt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terin vään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eilmapisto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yn leikkaustyökal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alaikkahiomak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lmahiomak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C13A-3526-4209-87DA-FD953BCF43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Hiomakon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716000" y="2421000"/>
            <a:ext cx="3527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ustu konekohtaisiin turvallisuusohjeisiin ennen työn aloitta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äytä silmien suojai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ötä kappale laikkaa vasten hita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älä kolhi laikk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27640" y="907920"/>
            <a:ext cx="1838520" cy="1190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5320" y="2060640"/>
            <a:ext cx="2776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065E-9C73-4A6D-9DAD-F2EFD179C2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yöturvallisuuden perust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ti ja opetus luokkahuone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esit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ttajan havainnollinen opastus työsal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öturvallisuust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in kuuluu 15 kysymystä ja jokaiseen kysymykseen 3 väittämä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 on hyväksytty, kun 80 % on oik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9B3C-BB10-4B0B-AF74-75F05E1B54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1  Kulmahiomakoneen turvallinen käytt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88000" y="2133720"/>
            <a:ext cx="361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ustu käyttöohje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än vaihdon ajaksi kone irrotettava verkkovirr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kasta laikan suojus ennen työn aloitta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ä työkonetta tukevasti kii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 varovainen reunoja työstäessä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87C43-3686-4770-8F94-B46E270B5C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 Porakon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äsiporakon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hkökäyttö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kukäyttö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eilmakäyttö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kkiporakoneet  (pylväsporakone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4263-DA47-424A-BF23-41452068FA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1  Turvallisuus ja poraa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32000" y="2276640"/>
            <a:ext cx="309564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kät hiukset on suojat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äähineen käytt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ojala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kät / leveät  hihat sido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it kii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27320" y="2060640"/>
            <a:ext cx="3244680" cy="41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FF8D8-13F1-4437-8F1E-AA0B1DA5DC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.2  Porattavan kappaleen kiinnit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1640" y="2276640"/>
            <a:ext cx="3745080" cy="39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innitä porattava kappale huol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älä koske metallilastuun käs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ä suojalas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ivoa porausjätteet metalliromun sek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3057480" cy="33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A2FE-3E96-4A6C-8CF3-3E3C0F8ADF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 Hitsaa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87640" y="2101680"/>
            <a:ext cx="352908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ä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asuhitsauksessa suojalase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issa hitsauksissa mas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osuoja haala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ojakäsin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ää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1596" t="1982" r="0" b="0"/>
          <a:stretch/>
        </p:blipFill>
        <p:spPr>
          <a:xfrm>
            <a:off x="1042920" y="2060640"/>
            <a:ext cx="3529080" cy="35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5EA3-0948-4903-A348-191E9E3993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.  Hitsaussav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ittävä ilmanvaih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hdeimurien käyt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vittaessa hengityksen suojai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70F2-7D45-451B-85AF-958FDCFA4E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2  Tulityöt ja turvallisu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87280" y="2349360"/>
            <a:ext cx="563580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mistu työturvallisuudesta ennen kuin aloitat työ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lityön vaa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65560" cy="352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AC84-B401-4E9F-873D-5D3248C295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3 Kaasuhits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3745080" cy="38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urvavarus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aasuletkujen vär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etyleen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una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stekaasu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oran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ppi 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  <a:ea typeface="Times New Roman"/>
              </a:rPr>
              <a:t>sin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59748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40B54-FD56-4674-882F-7FCE7F6AC8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.13 Takaisku ja takatu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kaiskus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iekki sammuu paukahtaen ja syttyy uudelleen suuttimen päässä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os takaiskut jatkuvat tutki niiden syy ennen kuin jatkat hitsau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katu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yntyy silloin, kun liekki takatulen jälkeen jatkaa palamistaan polttimen sisällä. Kuuluu viheltävä ääni ja suuttimesta tulee kipinöitä ja mustaa sav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4A95-104A-4611-8BD8-8E2337B3BB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. Akku ja lataa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25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uhap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ilytys ja käsit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tso Autoalan työsuojeluopas s.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ittävä suojautuminen, suojalasit ja suojapu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övyttäv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a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äjähdysva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ä kipinö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7C1A-176A-4E4E-8EEF-A997D18C28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Työhön valmistautu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1640" y="2492280"/>
            <a:ext cx="374508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riittävä yöu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onipuolinen rav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liiku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uva www.tyovaatetus.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041560" cy="377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33A8-213B-41F6-8FB9-E2413AEEB1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 Nostur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n oma tunk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pilari no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pilarino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pilarinos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litunk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oltonosturi , moo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ut nosti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83CD-055E-412B-84AF-CF748B1B49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0  Nosturin käytt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timia ei saa ylikuormitt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ustu nostimien omiin turvaohjeisiin ennen nost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älä mene varmistamattoman nostimen a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DED3-E4EA-472E-8377-9FF10E3626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1 Hallinosturi eli Tun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36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etään vähäisiä korjauksia tehtäe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oneuvo tuettava ns. pukeilla ehdottomasti ennen korjaustöiden aloit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38098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93D5-1396-4ECB-B1CB-3E6E7D6D45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2  Huoltopukk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505320" cy="24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 tunkin hydrauliikka ei pidä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mista aina auton pysyminen ylhäällä tukipukkien avu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va huoltopuk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32000" y="4221000"/>
            <a:ext cx="3024000" cy="2095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18009" t="23319" r="32497" b="20635"/>
          <a:stretch/>
        </p:blipFill>
        <p:spPr>
          <a:xfrm>
            <a:off x="5292720" y="2637000"/>
            <a:ext cx="2309760" cy="25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E722-8EB5-4C00-B469-BE79AFE3A6E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3  1 - pilarinos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ä etua nelipilarinostimeen verratt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ä vaaratekijöitä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666880" y="3573360"/>
            <a:ext cx="38102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AA20-4036-4298-8A25-81F3762C6E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15.4    Akseliston kevenn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03280" y="2420640"/>
            <a:ext cx="350532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eventimen varmist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nuo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oitta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armistustap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809880" cy="2730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flipH="1" flipV="1">
            <a:off x="3131640" y="3933720"/>
            <a:ext cx="1584360" cy="50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EBFD-5C21-4484-B248-4C7CA92F77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5    Nelipilari - nos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32168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ä huomioitav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kitus ja varmi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4267080" cy="284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753BE-A746-4657-B7CF-FED061DD19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6 Muita nosti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48036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C535-3A17-4500-B812-E7E3EE82C8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7 Muita nostimia jatkuu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12880" y="2060640"/>
            <a:ext cx="571824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164B-942B-4DA8-A947-D1608AB9AD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8 Lisää nosti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809880" cy="254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3809880" cy="254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2F65-CEBB-4A4E-A57E-3B67E3D1B8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Työhön valmistautumin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40360" y="1988640"/>
            <a:ext cx="3960720" cy="20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akointi on sallittu ainoastaan merkityillä tupakkapaiko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2052720"/>
            <a:ext cx="1384200" cy="1376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6000" y="4257000"/>
            <a:ext cx="424800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koholin ja huumausaineiden hallussapito ja niiden vaikutuksen alaisena oleminen on koulussa ja työpaikalla kiellet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4E10-F5F3-4137-8CB3-D5D5D32228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 Rengasty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21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ustu rengaskoneen käyttöohjeis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kasta renkaan ja vanteen k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949560" cy="480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154B-BEEB-47AA-99A8-769F91792B3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032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1  Renkaantäyttö turvallise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787640" y="2205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kaan täyttä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vytmetalli va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kaankaluston renkaat täytetään turvahäkiss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79252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9211-F6F8-4D1C-8926-DE97A1E897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2 Varotoimet rengastöiss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kaan täyttökes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A57B-CBA0-4E06-84D7-7F2C2F328A5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3 Turvallisuus rengastöiss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32000" y="2338560"/>
            <a:ext cx="331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ustu koneen käyttöohjees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ttele mitä t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data annettuja ohj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e huolell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sy neuvoa, ellet tied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81024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7849-A318-4A32-963E-A89630ED59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.4  Raskaankaluston rengastyö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äjähdysvaa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kkorenkaalla varustettuja vanteita käsiteltäessä on noudatettava erityistä varovaisuu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kaat täytettävä siihen tarkoitukseen valmistetun tukevan kehikon sisäll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538EB-66B0-4198-BFC8-FCAD5BE7BC0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.5  Raskaankaluston rengastyö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292360" y="2101680"/>
            <a:ext cx="309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Kuvan rengashäkki on Tecalemit- merkk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C6287-86A2-4208-AD33-897D4F2B8A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6  Renkaan tasapaino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32360" y="2101680"/>
            <a:ext cx="352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ustu koneen käyttöohjeisiin ennen työn aloitta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kasta vanteen kiinnitys ennen koneen käynnistämis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ta kivet rankaan pinn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381024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F0C5-287D-4FB7-93B6-77E5C373765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7  Painon asentami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ekijöitä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mi saattaa jäädä painon ja vasaran väl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kaan pyöriessä saattaa irrota kiviä tai nas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2637000"/>
            <a:ext cx="3809880" cy="28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F3EF-E961-4C44-A952-F62AF0D963E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6.8 Renkaan tasapainotus jatku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87640" y="210168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ekijöitä jatkuu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ngasta asennettaessa saattaa sormi jäädä levypyörän ja akselin väl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2708280"/>
            <a:ext cx="380988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96F2-7B15-484D-9F09-0C702355CAA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. Testirata. Jarrute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58920" y="2101680"/>
            <a:ext cx="360036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rrujen te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kunvaimentimien test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nen käyttöä tutustu laitteen toimintaan ja käyttöohjei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 laitetta ei käytetä, pidä rullien päällä suojalevy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5300640"/>
            <a:ext cx="4753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om. Kuvan testirataan kuuluvat suojaraita maalauk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417492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B57B-36B6-4E4B-B01B-1AD4DE2F54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  Työpäivän aloi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lot, korut ja sormukset po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kät hiukset suojattava / kiinnitettäv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ää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ean kokoiset suojahaala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vajalkin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ut suojavarusteet työn muk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AD7D-35B4-4DD8-A91A-D03037E92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.1   Testir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787640" y="2101680"/>
            <a:ext cx="405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radan käyt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ekijä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öturvallisu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2637000"/>
            <a:ext cx="38098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A7CEA-A0A4-4FCF-B88F-AD142519D17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.2 Jarrujen test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1640" y="2101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o pyöriviä ru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omioi suojaetäisy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Älä tee korjauksia testauksen aik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2120" y="2205000"/>
            <a:ext cx="3809880" cy="352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A675-424D-4EC4-9437-5678F636BEE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5. Järjestys ja siisteys työsalissa ja korjaamohalli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360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ärjestys ja siist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urvallisuut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övälineet paikoilleen käytön jälk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kuväylät pidettävä vapaina este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inteät koneet ja laitteet sijoitettava turvallis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3809880" cy="330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97CD-9107-40AE-AA92-F1F347D0F69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1  Järjestys ja siist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36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ärjestys on turvallisu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ärjestyksessä olevat työvälineet löyty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auta työvälineet asianmukaisesti paikoilleen käytön jälk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CC38-2411-42B2-A2DE-08AF50B25BB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1  Järjestys ja siist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559296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kee kaik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limääräiset aineet ja tavarat voivat aiheuttaa vahinkoa tai vaaratilanteita ollessaan kulkureitillä tai joutuessaan prosess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ivoa työpiste päivittäin ja työn päättye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mista, mihin työvälineet ja tarvikkeet voi jättää (mm. palovaa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ää viikonlopuiksi ja vapaapäiviksi kaapelit ja letkut keloille ja sammuta kon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659640" y="3789360"/>
            <a:ext cx="1712880" cy="236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834C-2484-4116-80BF-5727E5418E1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2 Työkalut löytyvä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4321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n laitat ne käytön jälkeen paikoilleen..,  muistit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mista, että työväline on ehjä, tarkastettu ja tarkoituksenmuka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ä viallisen laitteen käyttö, merkitse vika ja toimita laite huolt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a huomioon työskentelypaikan erityisvaatimuk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13507" t="17666" r="19016" b="14379"/>
          <a:stretch/>
        </p:blipFill>
        <p:spPr>
          <a:xfrm>
            <a:off x="5076720" y="4076640"/>
            <a:ext cx="3382920" cy="22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46D6-B299-40B4-85F7-21E67BFB549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3  Työvälin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ustu työvälineen käyttö- ja huolto-ohjeis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Älä poista työvälineen suojalaitteita tai varoitusmerkintöj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ä tahaton käynnis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äilytä työvälinettä asianmukais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auta lainaamasi työväline puhdistettuna ja tarkistett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2897-9495-42EB-A8E0-A116CC531A1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08000" y="1039680"/>
            <a:ext cx="7128000" cy="4776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2  Siisti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42920" y="4797000"/>
            <a:ext cx="7772400" cy="11113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isti työympärist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ulta odotetaan  hyvää käytöstä ja siisteyttä työssä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A14E-91E1-4D5D-8151-189237A9D05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2  Kestäväkehit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stävä kehitys on asennekysym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vallisuus jätteiden lajittelu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7058" r="0" b="0"/>
          <a:stretch/>
        </p:blipFill>
        <p:spPr>
          <a:xfrm>
            <a:off x="2286000" y="3429000"/>
            <a:ext cx="45720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A1B5-8FA6-438E-95DB-187EDAA7629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.3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gelmajätt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äyttö, kuljetus ja säilyttäminen on luvanvara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äilytetään niin, ettei niistä aiheudu vaaraa ihmisille tai ympäristö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merkiksi jäteöljyä, käytettyjä öljynsuodattimia tai muita ongelmajätteitä ei saa säilyttää ulkona avonaisissa astio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äiriötilanteessa rajaa vahinko ja ilmoita siitä työn valvojalle ja esimiehell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37B6-882D-4BDE-BCA9-E57AFEE65A8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Useampi asentaja  saman auton pari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dä mitä teet ja mitä parisi tek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ilant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 siirtä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ttorin käynnistä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vallisuusohje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1932120" cy="295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4147-F152-4B50-AAE0-5D01CD2A72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6.  Asiallinen ja siisti työt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ä huomioitavaa löydät kuvast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482436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71D3-759D-481B-B9E8-56389FA93E6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olme turvallisuusvaatimus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292360" y="2101680"/>
            <a:ext cx="316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lpp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arovaisu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mattitaidon lisäk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llo, käytös  ja kavereiden huomio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1460520" cy="237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763E-AB96-4B9A-933E-E210FCA7EDE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öturvallisuusk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ataan opiskelijan työturvallisuusosaa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väksytysti suoritettu koe oikeuttaa työturvallisuuspassi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öturvallisuuspassi ei korvaa työpaikkakohtaista lakisääteistä perehdyttämist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958C-A08A-4B70-8C43-E83226D6FC3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696000" cy="50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BC95-FC87-490B-85D0-AE1315C6CF2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itoksia mielenkiinno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666880" y="270828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A229-384C-4271-ADFC-0ED1F1FBB0E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1 Hallin ovet ja turvallisu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ien käytt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taan kokonaan auki ja varmistet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jetaan huol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a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mien jääminen väl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kematon ovi paiskautuu tuulen voim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4BCA-F4AC-456F-BBF3-6029BD14D0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388280" cy="4926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1 Hallin ovet ja turvallisu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459C-7BE4-4167-BD60-2C15EF6A5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2  Sähkökäyttöisen oven toimi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ami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ke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2421000"/>
            <a:ext cx="38098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yössäoppimisen työturvallisuusprojek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5488-2224-4127-A30E-DE7500E441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7:07:20Z</dcterms:created>
  <dc:creator>dville</dc:creator>
  <dc:description/>
  <dc:language>en-US</dc:language>
  <cp:lastModifiedBy>Malli</cp:lastModifiedBy>
  <dcterms:modified xsi:type="dcterms:W3CDTF">2008-02-17T15:48:10Z</dcterms:modified>
  <cp:revision>8</cp:revision>
  <dc:subject/>
  <dc:title>Dia 1</dc:title>
</cp:coreProperties>
</file>